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227-C989-4DEE-9AEB-56A62741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F7D-B04C-4842-B026-CEA37A5A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04A-97D4-46BF-BDD5-6A381A51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023-9509-40EB-8319-69C51F3D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08F-74B4-4B4A-9425-CB89255A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163-CFEF-4901-97E9-C1EF5898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8C1-85DD-4B98-841B-B7B6CE29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190-17AA-43A4-8CAA-28FF6C90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92C-C77A-4B8C-B8F8-5351AAC6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9C7-B0CE-4BE5-85E8-F78C76C4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BC70-AE55-4CB8-8CDA-70F16D37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7D1-78F7-4925-B9C8-E55A4051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DCDF-EA07-43F5-9D3F-B909C8FCA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odloga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2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51628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-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спираторни систем такође ради под већим напором али је битно да се повећани дисајни капацитет повећава на рачун дубљег дисања а не на рачун броја респирација. Минутни респираторни волумен се повећава 5 до 10 пута код највећих оптер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53224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физичких вежби побољшава се и перисталтика дигестивног тракта, повећава се секреција желуца, убрзан је метаболизам, а посебно је изражено сагоревање масти и шећ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незитерапија условљава и промене на рефлексним релејним везама, како на нивоу спиналне етаже,тако и на вишем нивоу, а што доводи до стварања нових шема покрета и моторичке а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валуација функција локомоторног апа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387520"/>
            <a:ext cx="76438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дужине екстре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обима екстре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обима покрета у зглоб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ануелно тестирање мишићне сна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ДЖ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рапеутске вежбе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азична техника-врсте веж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7827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ју сврсисходне,систем.п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доприносе очув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постављању или замени оштећене фу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50920" y="1811160"/>
            <a:ext cx="42498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648320" y="412128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ив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помогну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 са отп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а оптере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времене мет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nkow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F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at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jta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жбe у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успенз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inVogelbac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 Kenzy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457200" y="2762280"/>
            <a:ext cx="4038480" cy="22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асивн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нципи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абилизација проксималних зглоб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идржавање дисталних свих зглоб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до б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лагани, глатки покрети, без истез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- одржавање физиолошке дужине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одржавање обима покрета у зглобови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аферентација сегмента стимулацијом проприоцеп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имулација трофике и реф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ипрема за активне ве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нтраиндикаци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веже пов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млитаве одузе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запаљенски реумати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о потпомогнут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моћ терапе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усп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моћ здравим екстремит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Принципи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Ефек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бјаснити болеснику шта да ради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јачање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ужити минималну помоћ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преду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збегавати употребу др мишића        координ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ратак одмор после сваког пок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ринци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детаљно показати све фазе вежб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дозирати теж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ацијент не сме бити 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Еф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бољшање координ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већање брз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аутомат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општа издржљив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е са оптерећењ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оптерећ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произвољно: експандер, мануел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одмерено: тегови, динаметар,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ули апа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e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5-10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нтракција маx оптерећења 6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Де Лорме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финиција и појам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инези терапија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гр.кинеин-кретати се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инесис-покрет) је област физикалне терапије, која се бави применом терапеутских  в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жби ради  очувања,успостављања, развијања и замене функције локомотормог апар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о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1981. гoд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п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шe: "Пoкр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oм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л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њу з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њ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тс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ст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стала медикаментозна средства не могу заменити покре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Агенс је покрет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Циљеви терапеутских веж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280" y="18558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ржање или повећањ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има покрета у згло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аге миши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рдинације пок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ине пок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калне и опште издржљ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ровање и мишићна сна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6000" y="171144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нактивите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је нефизиолошко стање. Оно је условљено имобилизацијом, углавном код посттрауматских стања или код парализе, због првенствено немогућности активног кретања. Инактивитет има последице које се огледају првенствено на апарату за кретање, а затим на кардиоваскуларном, респираторном и процесима метаболиз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ровање и мишићна сна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инестетички импулси се код овог стања не формирају јер нема активности а то значи одсуство аферентације и фасилитације ЦНС па то условљава гашење енграма и губитак координације и аутоматизма при кретању. Долази до атрофије мишића. Код гипсане имобилизације мишићи далеко брже пропадају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oll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1970., 1,5 до 3,0% дневно или 10 до 20% недељно). Да би ојачали ослабљене мишиће потребно је дупло дуже време од настанка хипотроф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978280" y="3246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траумат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повреда меких  ткива, прелома и комплик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ортопед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деформације кичменог стуба (сколиозе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кифозе), стопала, поремећаји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окоштавања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остеотомија, артопластика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артродеза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неур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ериферне и централне одузет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миопатије, миозити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931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реумат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запаљенски, ванзглобни, дегенеративни у р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гинекологија и акушер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операција, превенција комплик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рипрема за безболан порођај, после порођа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хирур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ре и после оперативних захвата у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неурохирургији, васкуларној, грудној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општој хирургији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Контра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560" y="1855800"/>
            <a:ext cx="366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локал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утно запаљ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крвар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бол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ТБ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солутних контраиндикација н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4360" y="18558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опш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фебр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висок 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инсуфицијенција ср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убрега, јетр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тежа респиратор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090220101803"/>
          <p:cNvPicPr/>
          <p:nvPr/>
        </p:nvPicPr>
        <p:blipFill>
          <a:blip r:embed="rId1"/>
          <a:stretch/>
        </p:blipFill>
        <p:spPr>
          <a:xfrm>
            <a:off x="2195640" y="260280"/>
            <a:ext cx="4511520" cy="60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8560" y="1855800"/>
            <a:ext cx="648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веђанин Линг (1776 - 1839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 први увео програм активних вежби у циљу лечења болесних стања локомоторног апарата (шведска гимнасти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уро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шићна контрак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је основни битан елеменат кинезитерапије.Статичка и динамичка функција локомоторног апарата обезбеђује се мишићном контракцијом која је резултат сложеног процеса на разним нивоима организације моторне активности, а који започиње импулсом из моторних ћелија мождане коре.Импулси из мождане коре и супкортикалних формација доспевају кортикоспиналним (пирамидни систем и другим путевима кортикостриоретикуларни-екстрапирамидни систем) до кичмене мождине а затим  преко периферног моторног неурона да неуромишићне спојнице, а тиме и до мишићног вла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уро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мотор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јединиц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сва мишићна влакна инервисана од стране једне моторне ћелије предњих рогова кичмене мождине; није анатомска него функционална једин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моторн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неуро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екстафузална влакна-покрет или стабилиз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моторн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неуро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интрафузална влакна-постуралну припрему покре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стереотип покрет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: аутоматизовани, лако изводљиви без већег утрошка енергије захваљујући “програмирању” екстрапирамидног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кроз инактивитет се гас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ине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инезиолог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наука која се бави проучавањем покрета. Она проучава биомеханику, као и функционалну анатом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олу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брзине (лакат, подизање на пр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снаге (зглобови ГЕ и Д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равнотеже (атланто-окципитални, куков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ишићна контра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је стање раздражљивости мишића која тежи његовом скраћењу, без обзира да ли пости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врсте: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зометријс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зотонич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одела мишића према функц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агон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антагон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синерг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фикса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herinton-o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акон реципрочне инерв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а кинезитерапије је активни покрет. Сваки физички напор пр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 је одговарајућим физиолошким променама на респираторном кардиоваскуларном као и нервном систем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иру мишићи користе само 15% минутног срчаног волумена, а при оптерећењу то се повећава 4 до 5 п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модинамски захтеви срца се повећавају и то се може надокнадити првенствено повећањем минутног волумена и убрзањем пул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417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тренираних особа са здравим кардиоваскуларним системом ударни волумен се повећава, као и минутни волумен 2 до 3 пута. Такође се и пулс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повећати. Код максималних оптерећења потребно је у року од 5 до 10 минута да се пулс врати на стање пре оптерећ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8:01:41Z</dcterms:created>
  <dc:creator>Vojislav Ilic</dc:creator>
  <dc:description/>
  <dc:language>en-US</dc:language>
  <cp:lastModifiedBy>katarinaparezanovicilic@gmail.com</cp:lastModifiedBy>
  <dcterms:modified xsi:type="dcterms:W3CDTF">2020-09-26T16:55:46Z</dcterms:modified>
  <cp:revision>11</cp:revision>
  <dc:subject/>
  <dc:title>Slide 1</dc:title>
</cp:coreProperties>
</file>