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431-04CB-4090-8B2B-BF106FD1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8AE-AD6A-4A11-B177-1A6AC0AD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46F42-24C2-4643-825B-13B0DE59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9F6AC-32FA-46F0-B6EE-F8E0C69B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F191B-9D4E-4CCD-ACAB-35CC659E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94960-E697-4384-B38E-8F29325F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1BBFA-61C0-4CB8-A66A-78C3FF8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FBE60-B21D-44C3-9276-CAE4BDA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1C6E2-C253-4E8D-84E7-2A952587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51F33-D761-441D-8A48-34219AAA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4DC70-B038-4B3A-A236-D7B4D584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D39E4-F2B2-41D0-AB3D-748F8D6A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AAF-6183-4809-B47B-F5BC030A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273CA-1373-4717-9B69-37921F3C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1E8A6-3FFA-4371-AC42-0192F32A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B04B5-DD99-46D5-8F50-11831E5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47748-B988-4635-BEE4-27C1DDCC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D81E6-B587-442B-9331-5DC83A32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3E43C-FA80-4109-9441-3EADE9DC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DD4CD-F0F5-4262-9C17-FD82BF97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172D8-0B68-4530-8312-C1FAA3C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FCD9F-3E66-425E-B2EE-D246F00E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E7B2B-3F40-4B38-8F67-750D5A5B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E3D-52CB-45CA-8B09-7227A088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41B7F-0454-4EBE-8A47-6963CF47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72C5D-199B-4AA8-A3D0-BE71B9EA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3567E-096E-49C0-86A3-BB1F2388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CA73C-C45E-49D5-9C35-82E3B725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62B76-487B-4CBA-ACB2-4AC37DDC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09BCA-458B-4DA8-86BD-F247A2BA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7F3E8-A998-41A1-A425-9E1BB760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FDC52-ED10-4DD9-8430-D53933CC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ACD14-E95D-4842-9B4B-2DC78720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850C5-D7EB-431A-9666-2E0C0A4B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F3E2-5187-473A-8B66-22A968F3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C1361-492B-4A46-A136-01D6F500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1C8CF-D8BA-4AAD-9780-E13C7825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8BED9-15C5-4263-B8DC-F71E2427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EFD90-A5A2-4AC6-BDE4-304A518D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C273C-520F-4E3A-A81C-C909274E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D211B-55E0-4514-9E79-A8786216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F95E6-41C6-44A0-9AE8-44EBDD2C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FC956-B5D1-45CA-B0BE-DC0F0173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03A6C-1911-429E-A5AA-17F5961C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17E85-E10A-4B53-984E-16D6B14D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40ED-8BF5-46C3-A9B3-E15FF51C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BE39F-085E-4F7F-B390-AE31B686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5D5D3-C9DA-4124-A885-8B062D9F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10226-EC84-4C9E-BE96-6B9699F1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C4C0C-3FFE-43A1-8F22-B8DFDA87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124EA-7389-4D02-8AF2-2A6EFA63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10195-430C-49B6-A870-15C5EBBA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F5BBA-D224-46EC-9BA3-E28FA21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8120F-849B-4191-B9FF-B9C84D99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9B47F-6606-4F93-9F76-1C9A9F30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34B05-00A4-416E-B485-B2DF305E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A722-3D75-49C3-B614-AB306FAD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482F0-4710-4908-BD40-B4DC4220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24CD1-FE72-4D94-BEE5-C1E1C2AB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41768-99F5-4446-9E7B-F1DAA2A7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25714-A681-4B9D-B49A-F2197553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A5C11-A6E9-4297-B4D7-D461D1F5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38CA6-37B0-49F8-97A7-241E026F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9FFDC-50FC-46E1-A182-838CD497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D2DF8-49B0-4767-B7B7-0FCD37EB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C6BC1-C7AC-4111-989F-BD238797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17F4A-6933-40C3-859E-A2A166AD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C50F-3E4F-4596-8968-951C764C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99051-6D47-4E3A-826B-B977D599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0654A-B7DE-454F-8FD2-F0730B88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925F4-DEAF-4DCA-A9F7-DD859A90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CA7FF-217B-4294-8904-C79966AC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6DCCD-1D77-4881-B665-9A101E8E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4E594-29C5-4639-89A1-28A5B2D9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1D342-3E98-49B9-B661-593D2C86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B8B57-654C-420F-94B5-2DBED502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35A5F-8308-4CA8-94E0-05897EC1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36F6A-CAEF-4926-8891-344ECC67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F11A-CE60-4DF5-8B8C-7473008A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1B959-2C08-4A1C-87D8-41678C8B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D755AE-656D-4E34-9B5C-23418DC9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8F388-DF16-470A-B7E3-3DBB37D7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2087A-67D2-4803-B0E0-77783FEF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DC30F-3194-4ACF-9273-3FAAF706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0B7EA4-2378-4DE4-9934-A1E67494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C601C-7100-4F7B-A988-8874529B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FFE163-A490-4662-9867-8BF2BE3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88364-C30B-40E1-B780-E520633C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2B5E82-E01B-4916-B67D-492F27A4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592D-034E-4609-A8FE-BB775EAF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B1855-9D4A-4920-8C84-EDC3C9E0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A94D1-1072-4977-9C7A-E5786C12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04C42-43DB-4F87-8470-0321C9D2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4A55D0-D58B-4846-964C-A2A8E874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92209-2408-4D6A-A18B-6038FED9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7482A-36FD-4416-92CE-0328D7D6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19DA3-B845-4AD7-8065-A54CB81E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3F402-7950-4718-A39B-0BEA88E0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420F6-F8F0-4835-9A40-E7447403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A18FF-524D-49F6-A6BA-1C4FAFB5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095A-3CB1-432B-A2CC-7F8D0760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53A49-7B9F-4FEC-81FF-1DC6C504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FCDF0-5156-4FD1-A46F-0DDCB45E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99FC9-5529-427C-9BB3-A20FB4AB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236498-AD2C-47AF-87CF-0D268160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FDB6C-931F-4CE3-8332-C11800E5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21020-C838-43FA-97E3-7F750640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4BE536-98E8-4E01-AE75-AE65D106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095710-FA3A-4BAE-94D7-92618638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1B3B1-C1CD-4D57-A18F-26D19DD3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E2780-49E3-47D0-A9F9-C84111A7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5C2-E4BD-42DF-9F0D-A8C4982A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E701-2614-4DEF-807A-0480A901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E5AE7-8267-410A-A45B-A94639B5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287B82-441A-4BC0-BE0B-0555702E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F257C9-51EE-4C50-8644-4C27D2A8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EB916-930F-4F06-8A15-E142887A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ED7A4-5D18-4603-AA3C-9DFDF341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2CCB0E-6E9A-4B4C-91C1-27C17BF5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A8440-8EC0-45D0-973D-1CEE1985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11C75-E8E8-4ACA-858A-7354AE91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02024-F32D-4C2C-8E87-6FECFDD0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0044D-52F0-4323-A8AC-57157ED8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9B9D-0E6A-476A-9ED2-82F0DFC4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22412-9297-4A9D-8489-DDE9F2CB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57DD35-535B-4352-9306-48EADEE9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54120-1EFE-4A3D-A91B-879C867F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902DE-F7C2-4E39-BD5F-A94F9661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E3E62-25E1-4179-911A-874CB215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5756D-9559-4EBE-87AA-D4EBB059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5E144-EB61-477B-84AC-9AB25456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98FA-FD5C-4DA1-BE27-4A118B1C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232B-D435-493E-84F5-31030D01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3F3B-DC65-4658-B6B0-DAC17315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E9D2-3237-43FB-88D4-633D8F66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F34D-43AD-4828-8828-005CF72C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B5ED-B443-4D2C-BBF3-D6B544A5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115F-90AA-422C-9AE5-E1522E57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68EC-8896-41B7-A183-E64FA978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447-D309-4FC5-B254-713905CF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8268-F36C-4803-92DF-1CB15244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5A9F3-6B34-4570-9992-EEE6A8D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CA75-CC44-4FEB-8A1D-3798DAEA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4EA8-140B-40A8-B2D5-EDE4E59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4580-559A-4FCA-ADF5-7F701384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47C5-024A-4BB4-95AE-23F99B8D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4753-E8B4-4290-88A4-DD0B09DE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CD123-8250-4A1C-A57D-AEF75C59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61A7-53D5-4154-8F8C-3BE6AD19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0DF09-01A4-467B-992A-93DFC7E7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092-66EE-478A-B0B1-9DA882F0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F49AD-8F8F-4979-A290-E1BD4FFC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0FF35-6E76-48ED-9306-3CDD3DDE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F4DE-62B7-4E37-958A-20852D74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D013-B6D7-40FC-B949-519395AE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31E87-9C79-4E97-A2C5-05C75131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C4547-0088-4178-BD70-99B4DB8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159B-DC12-444D-9A4D-37FEE3DB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9009-423D-4CD1-8635-CCCFF5CA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66A2A-55DA-4EE7-8F72-D8403FC9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2C0A-2BB5-46F7-B4A8-42FCFB73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89C-4DE7-43B6-BAFB-96EA9B70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A0ED4-9517-4003-8CAB-123A2BC3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9A3EB-5438-4FB7-BCCB-B648AAE2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275A1-DC13-42F5-B0F0-49FA29AE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62867-D6A4-4CFB-90D6-F7E309CC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BFB8A-8D22-42D3-A031-31CEE68D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237C7-32E0-49C0-852D-EAF5608D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788B1-41E9-40EC-95FD-95682A0A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8A5C5-0861-47DF-92CF-47889DA0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60F84-7BB9-4384-89C8-00C50C28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EF626-DF20-438A-92B8-254566BF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B12-CB59-4610-854B-622764E1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A3149-37A7-4364-9769-6C954580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EA8E-DCE6-44F7-958F-4E17A1A3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379B1-EB50-4589-AF6A-B6A978DC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FC91-800F-40F2-906C-6AE1BC19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A5DDA-0B16-4326-A389-3B00A918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950F7-9AD0-4CA3-BD9B-D1FDD401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AE0C3-0D42-4E49-9C9B-B63BAEC0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21B42-5062-4726-854D-FE25CE4F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0F364-4530-46E6-9E14-8DB2DE77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13B83-2876-4D92-B4A7-41047885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561-B3E4-489C-859A-589E8129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A503C-1A3E-4797-81C0-63167A78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568C9-145A-417C-A6DE-5015E155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B150F-98DD-4ADF-8958-B6CA3CCF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BD9CF-E036-4E9C-8E97-DB9519E3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A8B80-3C6D-4916-A17A-8DC29FD6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DCCD5-DA45-492B-AD2A-26ADF0E2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659A-00F2-47AE-8E4C-14489A12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59101-BD47-45AA-A13F-E60C702E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84109-0A77-49DC-9376-7D4F2AB3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6B473-60A6-43AF-9A9F-641EDA1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781-B5A7-4B7D-A72B-1F2B5DE8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6BFB6-E661-4E55-8977-F8710717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51F22-34FC-4DB9-AE30-2EE3DEBC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4534F-8959-4B31-8A48-8747BD67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11BAF-15B1-484D-B7A2-FA1D32BC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7CD89-3D4B-4078-A61E-3518CF30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8CD63-BEB7-495E-87FA-B8D7FC2C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915CE-BDFF-404B-8140-A5D6C3D9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1918E-9DE1-43E2-810C-618D49BF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5B62B-051A-44E1-AED1-1AB2C70E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6B3ED-DE40-4819-887F-00D9ED17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BF5-EF1B-4DDD-9BB8-6DDD1357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18BFC-A7B0-41B2-A01E-F96803DB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397F3-1C33-4256-80AF-4114047F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94EEB-6CFC-4C44-B241-79EBF21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93469-D40A-450E-BA9D-613B0CC6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DC6D9-026E-4B7F-AB3E-4301C036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4C67E-D021-4784-9B22-07A94E58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5A0A7-F902-4F87-AC07-F39FE7D6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C56CA-8104-450C-AF6D-43AEA1D6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AE5EF-2687-42A3-A2B7-1B8BD6D1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F59F5-BA49-4257-B40C-A1524E09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25707-B592-4FA2-9346-4E80254AF4D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2BB0D-5346-4DFB-963B-9F329E05772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C6AB1-7BDF-46E6-8C4A-496553E14D09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56163-0ED7-4FB6-AF24-FA782799710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9882B-DF44-4A0B-AF23-7D6C2BF641C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E1677-30F7-44B9-9A07-B098FB62FD8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CC23D-1B49-4054-BCB4-837A2D8C2D9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B237E-F160-401F-937C-2E75F1C8D8B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97C18-C45B-434E-B2A2-129B55DF33C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7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8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7DE1E-766F-4A54-B9B2-3986D22216F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9205F-B84A-4303-8497-CC65A4C1ED6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79E2D-F1EB-4F2A-9734-60F41350131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37B7D-94A7-4309-BF53-AEB811A9271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8B31C-54EE-4829-93C5-0834D7C73C0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98142-ECF7-4FF3-907C-AC722246F10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CAA20-DC4F-4625-9E9A-0F3F2DB0951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1C55E-FE09-4A83-81B8-D90FFE1768A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6254A-60B0-4D33-86BE-DE744413B71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58560" y="1213920"/>
            <a:ext cx="5359320" cy="279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Trebuchet MS"/>
              </a:rPr>
              <a:t>ОРТОТИКА И ПРОТЕТИК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5084280"/>
            <a:ext cx="610704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Доц. др Катарина Парезановић- Илић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71280" y="2336400"/>
            <a:ext cx="7272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Оптозе су помагала која служе за замену изгубљене функције одређеног сегмента локомоторног апарата, спречавају настанак контрактура и деформације зглоба врше корекцију деформација кичменог стуб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042920" y="227628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зе колен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за за кичмени стуб: </a:t>
            </a:r>
            <a:r>
              <a:rPr b="0" lang="sr-Latn-RS" sz="2000" spc="-1" strike="noStrike">
                <a:solidFill>
                  <a:srgbClr val="ffffff"/>
                </a:solidFill>
                <a:latin typeface="Trebuchet MS"/>
              </a:rPr>
              <a:t>Millwauke</a:t>
            </a: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 мидер,</a:t>
            </a:r>
            <a:r>
              <a:rPr b="0" lang="sr-Latn-RS" sz="2000" spc="-1" strike="noStrike">
                <a:solidFill>
                  <a:srgbClr val="ffffff"/>
                </a:solidFill>
                <a:latin typeface="Trebuchet MS"/>
              </a:rPr>
              <a:t>TLSO </a:t>
            </a: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мидер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стала помагала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педска обућ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за крет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у оквиру АДЖ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и техничке олакшице у кући и на радном мест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 и проте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899640" y="2336400"/>
            <a:ext cx="7704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имена протетских и ортотских средстава, представља супституцију изгубљених делова тела(протезе) или изгубљених функција (ортоз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отезе се користе након ампутације горњих и доњих екстремитет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отетичка рехабилитациј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71280" y="2336400"/>
            <a:ext cx="756108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Trebuchet MS"/>
              </a:rPr>
              <a:t>Услов је да пацијент х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ротетич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рехабилитациј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ј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ложен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нтердисциплинарни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задатак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циљем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н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аксимално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огућ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физиолош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онструкциј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активног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ретањ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ребала би да се спроведе до месец дана од ампутације.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00000" y="752040"/>
            <a:ext cx="71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зе протетичке рехабилит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ОПЕРАТИВ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ОПЕРАТИВ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ПРОТЕТИЧКА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А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ОПЕРАТИВНА</a:t>
            </a:r>
            <a:r>
              <a:rPr b="0" lang="hr-HR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ЦИЉЕВИ У ПРЕОПЕРАТИВНОЈ ФАЗИ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премит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есни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родиц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ланиран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мпутациј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атећ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ехабилитациј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такт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цијент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–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изиотерапеут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државањ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дициј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речавањ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трактур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ОСТОПЕРАТИВН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826560" y="2336760"/>
            <a:ext cx="799308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едставља период након ампутације екстремитет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Циљеви у постоперативној фази су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Смањење отока патрљк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Превенцију инфекциј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Спречавање развоја контрактур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ретман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нтомског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ко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ој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сихолош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дрш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есник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родиц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ЕПРОТЕТИЧК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33520" y="2336400"/>
            <a:ext cx="79992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дставља период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д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вршет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растањ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н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о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мен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Циљеви у препротетчкој фази су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прем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трљ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бав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/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андажирањ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инезитерапиј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владавањ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амосталног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магалом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ретањ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изањ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езависности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ДЖ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ланирање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е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бавк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ОТЕТИЧК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11280" y="220500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амосталн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влач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влач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о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вној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длоз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к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прек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и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тепениц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ед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стај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д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из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родно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кружењ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лазак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лазак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ут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вентуалн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ортск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ктивност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стављ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аљ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ндивидуални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инезитерапијски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ретманом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БАНДАЖИРАЊЕ ПАТРЉК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826920" y="2336400"/>
            <a:ext cx="8066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андажир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патрљка је поступак којим обликујемо патрљак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роводи се еластичном чарапом или еластичним завојем, увек се оставља отвор 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 врху патрљка да уочимо евентуалну промену боје коже.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јјача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је компресија на врху патрљка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мањ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дем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рж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раст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н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онизир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трофичн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мускулатур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викав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трљк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талн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тиса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бликов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6:18Z</dcterms:modified>
  <cp:revision>33</cp:revision>
  <dc:subject/>
  <dc:title>Balneoterapija</dc:title>
</cp:coreProperties>
</file>